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26.gif" ContentType="image/gif"/>
  <Override PartName="/ppt/media/image13.jpeg" ContentType="image/jpeg"/>
  <Override PartName="/ppt/media/image4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D5F40-4D1D-4DB9-A3BD-075BE9A0FF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A1586-3565-43D9-9310-D33DBA43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4F134-4FE6-4A1D-9FF3-BBFC491A5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E260E-DA37-412F-AA1B-078077AC91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8852E-4DFC-46E6-B823-BE72B4044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9BE9-ACAD-4D56-B656-385AB969D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357B4-559E-4946-9B70-12FB9258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AC3D-71BE-4A75-B35B-8AFBFFF62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8635-3D27-417E-A36D-6030938B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CB69-1502-4384-8521-3DE819F8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96D6-CA02-4398-96C9-A05FAD6E5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0846-5249-4DE1-B486-CC846421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3565-A534-4BAE-8BF1-BD12717E1DC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04640"/>
            <a:ext cx="5616360" cy="235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章 小儿保健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428800"/>
            <a:ext cx="6710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宁夏医科大学护理学院  张海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4" descr="t01ac87b9e6ff83500a[1].jpg"/>
          <p:cNvPicPr/>
          <p:nvPr/>
        </p:nvPicPr>
        <p:blipFill>
          <a:blip r:embed="rId1"/>
          <a:stretch/>
        </p:blipFill>
        <p:spPr>
          <a:xfrm>
            <a:off x="5219640" y="1125360"/>
            <a:ext cx="3660840" cy="2819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5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前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膳食及营养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继续生长发育监测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的品行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及心理素质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传染病的预防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2" name="图片 3" descr="t01495603a7d5406df2[1].jpg"/>
          <p:cNvPicPr/>
          <p:nvPr/>
        </p:nvPicPr>
        <p:blipFill>
          <a:blip r:embed="rId2"/>
          <a:stretch/>
        </p:blipFill>
        <p:spPr>
          <a:xfrm>
            <a:off x="5219640" y="4076640"/>
            <a:ext cx="3673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6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学龄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营养，加强口腔护理；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爱公物、守纪律、团结合作，培养正确坐立行及良好学习生活习惯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体格锻炼；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免疫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55" name="图片 3" descr="t01c78f63acc286105d[1].jpg"/>
          <p:cNvPicPr/>
          <p:nvPr/>
        </p:nvPicPr>
        <p:blipFill>
          <a:blip r:embed="rId1"/>
          <a:stretch/>
        </p:blipFill>
        <p:spPr>
          <a:xfrm>
            <a:off x="4716360" y="4292640"/>
            <a:ext cx="3311640" cy="20890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4" descr="t01d435ffccb7da48e1[1].jpg"/>
          <p:cNvPicPr/>
          <p:nvPr/>
        </p:nvPicPr>
        <p:blipFill>
          <a:blip r:embed="rId2"/>
          <a:stretch/>
        </p:blipFill>
        <p:spPr>
          <a:xfrm>
            <a:off x="539640" y="4437000"/>
            <a:ext cx="302436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1496"/>
                </a:solidFill>
                <a:latin typeface="Calibri"/>
                <a:ea typeface="宋体"/>
              </a:rPr>
              <a:t>7.</a:t>
            </a: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青春期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供给充足营养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健康教育：良好的卫生习惯、充足睡眠、正确性教育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健康的生活方式、预防网络成瘾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法制和品德教育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预防疾病和意外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防治常见的心理行为问题</a:t>
            </a:r>
            <a:br>
              <a:rPr sz="2400"/>
            </a:br>
            <a:r>
              <a:rPr b="1" lang="en-US" sz="2400" spc="-1" strike="noStrike">
                <a:solidFill>
                  <a:srgbClr val="8ac8de"/>
                </a:solidFill>
                <a:latin typeface="Calibri"/>
                <a:ea typeface="宋体"/>
              </a:rPr>
              <a:t> </a:t>
            </a:r>
            <a:br>
              <a:rPr sz="2400"/>
            </a:b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居室：阳光、空气、温度、湿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衣着：柔软、吸水性好、大小适中、穿脱方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尿布（色白、软、吸水性好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颜色鲜艳（开裆裤、鞋子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睡眠 ：小儿睡眠时间随年龄的增长而减少，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舒适、安静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⑵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饮食： 营养丰富、卫生、环境、心情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喂养方法、饮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可训练坐盆排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后白天不用尿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时能控制大小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完成夜间不排尿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生活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及卫生习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⑷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清洁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开始刷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用杯喝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脱外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能独立穿衣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儿童保健的具体措施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二）教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原则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适合小儿的特点   一致性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以身作则       以鼓励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主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二节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体格锻炼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1" name="图片 4" descr="t018680fa45f774a91e[1].jpg"/>
          <p:cNvPicPr/>
          <p:nvPr/>
        </p:nvPicPr>
        <p:blipFill>
          <a:blip r:embed="rId1"/>
          <a:stretch/>
        </p:blipFill>
        <p:spPr>
          <a:xfrm>
            <a:off x="4284720" y="1557360"/>
            <a:ext cx="4427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体格锻炼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户外活动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锻炼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抚触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浴：水 浴  （温水浴、擦浴、淋浴、游泳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空气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光浴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育锻炼：体操、游戏、田径和球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825560" y="1941480"/>
            <a:ext cx="682560" cy="584280"/>
          </a:xfrm>
          <a:prstGeom prst="hexagon">
            <a:avLst>
              <a:gd name="adj" fmla="val 2920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1819440" y="1932120"/>
            <a:ext cx="682560" cy="583920"/>
          </a:xfrm>
          <a:prstGeom prst="hexagon">
            <a:avLst>
              <a:gd name="adj" fmla="val 29223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859040" y="1967040"/>
            <a:ext cx="600120" cy="512640"/>
          </a:xfrm>
          <a:prstGeom prst="hexagon">
            <a:avLst>
              <a:gd name="adj" fmla="val 29266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991520" y="198900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AutoShape 9"/>
          <p:cNvSpPr/>
          <p:nvPr/>
        </p:nvSpPr>
        <p:spPr>
          <a:xfrm>
            <a:off x="1819440" y="26938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1979640" y="2781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3" name="Group 25"/>
          <p:cNvGrpSpPr/>
          <p:nvPr/>
        </p:nvGrpSpPr>
        <p:grpSpPr>
          <a:xfrm>
            <a:off x="1803240" y="3462480"/>
            <a:ext cx="687240" cy="593640"/>
            <a:chOff x="1803240" y="3462480"/>
            <a:chExt cx="687240" cy="593640"/>
          </a:xfrm>
        </p:grpSpPr>
        <p:sp>
          <p:nvSpPr>
            <p:cNvPr id="114" name="AutoShape 12"/>
            <p:cNvSpPr/>
            <p:nvPr/>
          </p:nvSpPr>
          <p:spPr>
            <a:xfrm>
              <a:off x="1809720" y="3471840"/>
              <a:ext cx="680760" cy="584280"/>
            </a:xfrm>
            <a:prstGeom prst="hexagon">
              <a:avLst>
                <a:gd name="adj" fmla="val 29128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5" name="AutoShape 13"/>
            <p:cNvSpPr/>
            <p:nvPr/>
          </p:nvSpPr>
          <p:spPr>
            <a:xfrm>
              <a:off x="1803240" y="3462480"/>
              <a:ext cx="681120" cy="584280"/>
            </a:xfrm>
            <a:prstGeom prst="hexagon">
              <a:avLst>
                <a:gd name="adj" fmla="val 29144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4"/>
            <p:cNvSpPr/>
            <p:nvPr/>
          </p:nvSpPr>
          <p:spPr>
            <a:xfrm>
              <a:off x="1842840" y="3497400"/>
              <a:ext cx="600120" cy="512640"/>
            </a:xfrm>
            <a:prstGeom prst="hexagon">
              <a:avLst>
                <a:gd name="adj" fmla="val 29266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7" name="Text Box 15"/>
          <p:cNvSpPr/>
          <p:nvPr/>
        </p:nvSpPr>
        <p:spPr>
          <a:xfrm>
            <a:off x="1971720" y="35384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16"/>
          <p:cNvSpPr/>
          <p:nvPr/>
        </p:nvSpPr>
        <p:spPr>
          <a:xfrm>
            <a:off x="1803240" y="422424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973880" y="428148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2556000" y="2494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2556000" y="328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2556000" y="40784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1"/>
          <p:cNvSpPr/>
          <p:nvPr/>
        </p:nvSpPr>
        <p:spPr>
          <a:xfrm>
            <a:off x="2484360" y="4797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979640" y="5013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Text Box 24"/>
          <p:cNvSpPr/>
          <p:nvPr/>
        </p:nvSpPr>
        <p:spPr>
          <a:xfrm>
            <a:off x="3203640" y="1773360"/>
            <a:ext cx="410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2916360" y="1773360"/>
            <a:ext cx="446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26"/>
          <p:cNvSpPr/>
          <p:nvPr/>
        </p:nvSpPr>
        <p:spPr>
          <a:xfrm>
            <a:off x="2916360" y="1700280"/>
            <a:ext cx="4824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年龄期小儿的保健重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格锻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计划免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意外伤害的预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体格锻炼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儿童体格锻炼原则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计划、有步骤、逐渐增加运动量和延长锻炼时间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年龄特点及健康状况、选择锻炼方法和项目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空气浴、日光浴、水浴、体育活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4400" spc="-1" strike="noStrike">
                <a:solidFill>
                  <a:srgbClr val="38b5fa"/>
                </a:solidFill>
                <a:latin typeface="Calibri"/>
                <a:ea typeface="宋体"/>
              </a:rPr>
              <a:t>第三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计划免疫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78" name="图片 4" descr="t01156db21e946770a4[1].jpg"/>
          <p:cNvPicPr/>
          <p:nvPr/>
        </p:nvPicPr>
        <p:blipFill>
          <a:blip r:embed="rId1"/>
          <a:stretch/>
        </p:blipFill>
        <p:spPr>
          <a:xfrm>
            <a:off x="4067280" y="1916280"/>
            <a:ext cx="482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一、概念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计划免疫（</a:t>
            </a: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planned immunization 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根据免疫学原理、儿童免疫特点和传染病疫情的监测情况制定的免疫程序，是有计划、有目的地将生物制品接种到婴幼儿体中，以确保儿童获得可靠的抵抗疾病的能力，从而达到预防控制乃至消灭相应传染病的目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接种是计划免疫的核心。免疫方式有两种：主动免疫和被动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我国儿童的计划免疫程序，实施儿童预防接种的制度，使接种对象及接种项目要做到及时、准确、不遗漏、不重复，保证每位儿童得到及时、科学的预防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一）第一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是指政府免费向儿童提供（简称国家免疫规划疫苗），是儿童应当依照政府的规定受种的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既往常规接种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乙肝疫苗、卡介苗、脊髓灰质炎疫苗、白百破疫苗、白破疫苗、麻疹减毒活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加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麻腮风疫苗、乙脑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疫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流行性脑脊髓膜炎疫苗、甲肝疫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二、免疫程序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第二类疫苗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由公民自费并且自愿受种的其他疫苗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水痘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型流感嗜血杆菌疫苗，流行性感冒疫苗，口服轮状病毒活疫苗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价肺炎球菌多糖疫苗，狂犬病疫苗，狂犬病免疫球蛋白，乙肝免疫球蛋白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605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三）预防接种注意事项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麻疹活疫苗  耐热性差，抽吸后放置时间不可超过半小时，前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及接种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周避免使用胎盘球蛋白、丙种球蛋白制剂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脊髓灰质炎疫苗   需冷藏保管、冷开水送服，且服用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小时内禁热饮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百白破  在使用前充分摇匀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卡介苗  早产儿体重大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500g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个月以上婴儿接种卡介苗前应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PPD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试验，阴性者才能接种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乙肝疫苗     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6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顺序肌内注射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反应（局部反应和全身反应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局部反应：接种后数小时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左右注射部位会出现红、肿、热、痛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反应：接种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内出现不同程度的体温升高，多为中、低度发热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多数儿童的局部和（或）全身反应是轻微的，无需特殊处理，注意适当休息、多饮水即可。局部反应较重时，用干净毛巾热敷；全身反应可对症处理。如局部红肿继续扩大，高热持续不退，应到医院诊治。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休克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射免疫制剂后数秒钟或数分钟内发生。表现为烦躁不安、面色苍白、口周青紫、四肢湿冷、呼吸困难、脉细速、恶心呕吐、惊厥、大小便失禁以至昏迷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注意保暖，给予氧气吸入，并立即皮下或静脉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O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必要时可重复注射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计划免疫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晕针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在空腹、疲劳、室内闷热、紧张或恐惧等情况下，在接种时或几分钟内，出现头晕、心慌、面色苍白、出冷汗、手足冰凉、心跳加快等症状，重者心跳、呼吸减慢，血压下降，知觉丧失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儿平卧，头稍低，保持安静，饮少量热开水或糖水，必要时可针刺入中、合谷穴，一般即可恢复正常。数分钟后不恢复正常者，皮下注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肾上腺素，每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0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识记</a:t>
            </a:r>
            <a:r>
              <a:rPr b="1" lang="zh-CN" sz="2400" spc="-1" strike="noStrike">
                <a:solidFill>
                  <a:srgbClr val="03517d"/>
                </a:solidFill>
                <a:latin typeface="Calibri"/>
                <a:ea typeface="宋体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各年龄期儿童的保健内容，计划免疫、疫苗的定义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识别主动免疫制剂和被动免疫制剂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我国计划免疫程序的具体内容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游戏的功能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儿童意外伤害发生的原因，并列出相应的预防措施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Calibri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根据儿童的实际情况，查阅资料，为儿童制定合适的保健要点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正确指导家长选择适合其孩子的玩具、游戏或体格锻炼方法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指导家长进行预防接种反应的正确处理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58C9-99F3-432C-8687-215D970AE66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计划免疫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（四）预防接种反应及处理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异常反应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过敏性皮疹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于接种后几小时至几天内出现，以荨麻疹最为多见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服用抗组胺药物后即可痊愈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全身感染：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严重原发性免疫缺陷或继发性免疫功能遭受破坏者，接种活菌（疫）苗后可扩散为全身感染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理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抗感染治疗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34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     </a:t>
            </a:r>
            <a:r>
              <a:rPr b="1" lang="zh-CN" sz="4400" spc="-1" strike="noStrike">
                <a:solidFill>
                  <a:srgbClr val="8ac8de"/>
                </a:solidFill>
                <a:latin typeface="Calibri"/>
                <a:ea typeface="宋体"/>
              </a:rPr>
              <a:t>第四节</a:t>
            </a:r>
            <a:endParaRPr b="1" lang="en-US" sz="4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意外伤害的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99" name="图片 4" descr="t012bb0a74bc7c6b45e[1].jpg"/>
          <p:cNvPicPr/>
          <p:nvPr/>
        </p:nvPicPr>
        <p:blipFill>
          <a:blip r:embed="rId1"/>
          <a:stretch/>
        </p:blipFill>
        <p:spPr>
          <a:xfrm>
            <a:off x="4572000" y="2276640"/>
            <a:ext cx="439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意外伤害现状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在我国，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意外伤害占儿童死亡原因总数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26.1%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岁以下儿童主要死亡原因是意外窒息、溺水、中毒、交痛事故和摔落，其中意外窒息和溺水死亡人数占半数以上。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83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窒息与异物进入机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原因：捂被、溢奶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异物进入机体原因：小物品塞入鼻腔、外耳道或放入口内，儿童进食时哭闹、嬉笑将异物吸入呼吸道强迫喂药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：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放手不放眼，放眼不放心；有预见性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母子分床睡，儿童床上不放杂物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儿童进食时勿惊吓、逗乐、责骂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细嚼慢咽，勿将鱼刺、骨头、果核吞入。 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婴幼儿整粒的花生、瓜子、豆子及带刺、带骨、带核的食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）不给儿童玩体积小、锐利、带有毒性的玩具和物品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中毒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毒种类：食品、药品、农药、有毒动植物、其他化学药品等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儿童食物清洁新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勿随便采集植物和野果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口服药物和日常使用的农药、其他剧毒物品应放置在儿童拿不到的地方；家长喂药前要认真核对药瓶标签、用量及服法，对变质、标签不清的药物切勿服用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冬季预防一氧化碳中毒。</a:t>
            </a:r>
            <a:endParaRPr b="1" lang="en-US" sz="24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4560" y="1267920"/>
            <a:ext cx="576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外伤种类：骨折、关节脱位、灼伤、电击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儿不接触易燃、易爆、易损品。不玩火柴、打火机、煤气等危险物品，远离厨房、热水，防止烫伤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电器、电源有防止触电的安全装置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3)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儿童玩耍大型玩具时，有成人在旁照顾。居室窗户、阳台、楼梯、睡床应有护栏。家具边缘应为钝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08" name="图片 3" descr="t015f2664bc5d7fd5c9[1].jpg"/>
          <p:cNvPicPr/>
          <p:nvPr/>
        </p:nvPicPr>
        <p:blipFill>
          <a:blip r:embed="rId1"/>
          <a:stretch/>
        </p:blipFill>
        <p:spPr>
          <a:xfrm>
            <a:off x="5940360" y="2708280"/>
            <a:ext cx="2679840" cy="3533760"/>
          </a:xfrm>
          <a:prstGeom prst="rect">
            <a:avLst/>
          </a:prstGeom>
          <a:ln w="0">
            <a:noFill/>
          </a:ln>
        </p:spPr>
      </p:pic>
      <p:sp>
        <p:nvSpPr>
          <p:cNvPr id="209" name="爆炸形 1 5"/>
          <p:cNvSpPr/>
          <p:nvPr/>
        </p:nvSpPr>
        <p:spPr>
          <a:xfrm>
            <a:off x="6156360" y="5300640"/>
            <a:ext cx="1440000" cy="64944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46c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意外伤害的预防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5796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宋体"/>
                <a:ea typeface="宋体"/>
              </a:rPr>
              <a:t>常见意外伤害类型及预防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溺水与交通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  <a:ea typeface="宋体"/>
              </a:rPr>
              <a:t>2.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预防措施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幼托机构应远离公路、河塘等。在农村房前屋后的水缸、粪缸均应加盖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不可去无安全措施的池塘、江河玩水或游泳。绝不可将婴幼儿单独留在澡盆中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遵守交通规则；做好学龄前儿童接送工作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儿童骑车时佩戴摩托车头盔或自行车头盔，坐汽车时，系上安全带，不坐第一排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）在校园、居住区和游戏场所周围强制车辆减速。</a:t>
            </a:r>
            <a:endParaRPr b="1" lang="en-US" sz="20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212" name="图片 4" descr="t019c41d7529bbe207b[1].jpg"/>
          <p:cNvPicPr/>
          <p:nvPr/>
        </p:nvPicPr>
        <p:blipFill>
          <a:blip r:embed="rId1"/>
          <a:stretch/>
        </p:blipFill>
        <p:spPr>
          <a:xfrm>
            <a:off x="5796000" y="4262400"/>
            <a:ext cx="3097080" cy="211932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5" descr="t01bf73b1859f8115c4[1].jpg"/>
          <p:cNvPicPr/>
          <p:nvPr/>
        </p:nvPicPr>
        <p:blipFill>
          <a:blip r:embed="rId2"/>
          <a:stretch/>
        </p:blipFill>
        <p:spPr>
          <a:xfrm>
            <a:off x="5832360" y="2044800"/>
            <a:ext cx="30672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1219320" y="2133720"/>
            <a:ext cx="400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46ca6"/>
                </a:solidFill>
                <a:latin typeface="Arial"/>
                <a:ea typeface="华文行楷"/>
              </a:rPr>
              <a:t>谢谢</a:t>
            </a:r>
            <a:endParaRPr b="0" lang="en-US" sz="9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5" name="Picture 3" descr="angel"/>
          <p:cNvPicPr/>
          <p:nvPr/>
        </p:nvPicPr>
        <p:blipFill>
          <a:blip r:embed="rId1"/>
          <a:stretch/>
        </p:blipFill>
        <p:spPr>
          <a:xfrm>
            <a:off x="3929040" y="2928960"/>
            <a:ext cx="25718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344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Calibri"/>
                <a:ea typeface="宋体"/>
              </a:rPr>
              <a:t>                    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ac8de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第 一 节   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Calibri"/>
                <a:ea typeface="宋体"/>
              </a:rPr>
              <a:t>     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各年龄期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   </a:t>
            </a:r>
            <a:r>
              <a:rPr b="1" lang="zh-CN" sz="3600" spc="-1" strike="noStrike">
                <a:solidFill>
                  <a:srgbClr val="38b5fa"/>
                </a:solidFill>
                <a:latin typeface="Calibri"/>
                <a:ea typeface="宋体"/>
              </a:rPr>
              <a:t>小儿的保健重点</a:t>
            </a:r>
            <a:endParaRPr b="1" lang="en-US" sz="36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3" name="图片 3" descr="4_3[1].jpg"/>
          <p:cNvPicPr/>
          <p:nvPr/>
        </p:nvPicPr>
        <p:blipFill>
          <a:blip r:embed="rId1"/>
          <a:stretch/>
        </p:blipFill>
        <p:spPr>
          <a:xfrm>
            <a:off x="5003640" y="2133720"/>
            <a:ext cx="38894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640" y="260280"/>
            <a:ext cx="87361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</a:t>
            </a:r>
            <a:br>
              <a:rPr sz="2400"/>
            </a:b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各年龄期小儿的保健重点</a:t>
            </a:r>
            <a:br>
              <a:rPr sz="3200"/>
            </a:br>
            <a:r>
              <a:rPr b="1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Calibri"/>
                <a:ea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Calibri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0066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1d1496"/>
                </a:solidFill>
                <a:uFillTx/>
                <a:latin typeface="Times New Roman"/>
                <a:ea typeface="宋体"/>
              </a:rPr>
              <a:t>儿童保健</a:t>
            </a:r>
            <a:r>
              <a:rPr b="0" i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Comic Sans MS"/>
                <a:ea typeface="宋体"/>
              </a:rPr>
              <a:t>child health care</a:t>
            </a:r>
            <a:r>
              <a:rPr b="0" i="1" lang="zh-CN" sz="2800" spc="-1" strike="noStrike">
                <a:solidFill>
                  <a:srgbClr val="8ac8de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lvl="1" marL="743040" indent="-285840">
              <a:lnSpc>
                <a:spcPct val="160000"/>
              </a:lnSpc>
              <a:buClr>
                <a:srgbClr val="ff006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研究儿童生长发育规律及其影响因素、采取有效措施保护和促进儿童身心健康及社会能力发展的一门学科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宋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2920" y="1267920"/>
            <a:ext cx="550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1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胎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畸形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遗传性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避免接触射线及化学物质污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积极治疗慢性病并慎重用药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保证充足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给予孕妇良好的生活环境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加强产时保健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和及时处理围生期疾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38" name="图片 3" descr="t01b99a600564216970[1].jpg"/>
          <p:cNvPicPr/>
          <p:nvPr/>
        </p:nvPicPr>
        <p:blipFill>
          <a:blip r:embed="rId1"/>
          <a:stretch/>
        </p:blipFill>
        <p:spPr>
          <a:xfrm>
            <a:off x="5580000" y="2492280"/>
            <a:ext cx="29876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2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新生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日常护理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暖、喂养、清洁卫生、消毒隔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家庭访视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Home Visi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看：面色、皮肤、呼吸、反应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：生产史、吸吮、睡眠、大小便 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检查：体重、身长、体温、脐、黄疸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导： 保暖、生活护理、合理喂养、                 预防感染、情感连结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1" name="图片 3" descr="t015417a52e84665a62[1].jpg"/>
          <p:cNvPicPr/>
          <p:nvPr/>
        </p:nvPicPr>
        <p:blipFill>
          <a:blip r:embed="rId1"/>
          <a:stretch/>
        </p:blipFill>
        <p:spPr>
          <a:xfrm>
            <a:off x="6659640" y="4221000"/>
            <a:ext cx="2484360" cy="21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2560" y="1267920"/>
            <a:ext cx="838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3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婴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科学喂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促进感知觉、动作、语言发育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按计划进行基础免疫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生长发育监测等 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4" name="图片 3" descr="20111219145234182[1].jpg"/>
          <p:cNvPicPr/>
          <p:nvPr/>
        </p:nvPicPr>
        <p:blipFill>
          <a:blip r:embed="rId1"/>
          <a:stretch/>
        </p:blipFill>
        <p:spPr>
          <a:xfrm>
            <a:off x="5651640" y="2565360"/>
            <a:ext cx="3024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96472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                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各年龄期小儿的保健重点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2560" y="1268280"/>
            <a:ext cx="900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Calibri"/>
                <a:ea typeface="宋体"/>
              </a:rPr>
              <a:t>4.</a:t>
            </a:r>
            <a:r>
              <a:rPr b="1" lang="zh-CN" sz="3200" spc="-1" strike="noStrike">
                <a:solidFill>
                  <a:srgbClr val="1d1496"/>
                </a:solidFill>
                <a:latin typeface="Calibri"/>
                <a:ea typeface="宋体"/>
              </a:rPr>
              <a:t>幼儿期</a:t>
            </a:r>
            <a:endParaRPr b="1" lang="en-US" sz="32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合理喂养及营养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定期体格检查，生长发育监测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能力培养（良好生活习惯，制订计划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进行早期教育（训练大小便、动作语言发育）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预防各种意外事故</a:t>
            </a:r>
            <a:endParaRPr b="1" lang="en-US" sz="2800" spc="-1" strike="noStrike">
              <a:solidFill>
                <a:srgbClr val="8ac8de"/>
              </a:solidFill>
              <a:latin typeface="Calibri"/>
            </a:endParaRPr>
          </a:p>
        </p:txBody>
      </p:sp>
      <p:pic>
        <p:nvPicPr>
          <p:cNvPr id="147" name="图片 4" descr="t0189333a762dce49c5[1].jpg"/>
          <p:cNvPicPr/>
          <p:nvPr/>
        </p:nvPicPr>
        <p:blipFill>
          <a:blip r:embed="rId1"/>
          <a:stretch/>
        </p:blipFill>
        <p:spPr>
          <a:xfrm>
            <a:off x="3851280" y="4076640"/>
            <a:ext cx="2592360" cy="23050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7" descr="t01a194fe7cb614df75[1].jpg"/>
          <p:cNvPicPr/>
          <p:nvPr/>
        </p:nvPicPr>
        <p:blipFill>
          <a:blip r:embed="rId2"/>
          <a:stretch/>
        </p:blipFill>
        <p:spPr>
          <a:xfrm>
            <a:off x="6659640" y="4221000"/>
            <a:ext cx="248436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dcterms:modified xsi:type="dcterms:W3CDTF">2015-09-06T07:59:18Z</dcterms:modified>
  <cp:revision>2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